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BE447-2A27-48B6-B8DB-6313A9D59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D1F41-2827-427D-B7EC-F42243A8E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145D0-BE7D-468E-AAF7-7C6F2DF32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CE363-36E0-4E01-8B72-9477F5441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41D69-5809-4FC3-8906-130165B8C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1496F-E508-4113-94A2-E8CDFAB46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13338-8E81-455A-9493-620AC4897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D98B3-960C-4606-A9B1-792A0AFDB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6E05A-0258-4DC0-A226-5A16F502D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63582-C600-4361-815A-B68C24AA7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9E3EE-C962-4F58-B703-D8861B478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9223B-9B53-46AC-88C6-D0C2D4AEE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D8F1E-3E94-4CBD-877C-F4E07F883C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K cell ont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gust 21, 20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97000" y="692280"/>
            <a:ext cx="8548560" cy="54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85920" y="781200"/>
            <a:ext cx="8370720" cy="52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533520"/>
            <a:ext cx="4572000" cy="41637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4495680" y="685800"/>
            <a:ext cx="4165560" cy="356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806560" y="1441440"/>
            <a:ext cx="3530880" cy="39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39760" y="584280"/>
            <a:ext cx="866304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85800" y="1600200"/>
            <a:ext cx="8217000" cy="40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1T14:29:08Z</dcterms:created>
  <dc:creator>Penelope Morel</dc:creator>
  <dc:description/>
  <dc:language>en-US</dc:language>
  <cp:lastModifiedBy>Penelope Morel</cp:lastModifiedBy>
  <dcterms:modified xsi:type="dcterms:W3CDTF">2008-08-21T14:39:21Z</dcterms:modified>
  <cp:revision>1</cp:revision>
  <dc:subject/>
  <dc:title>NK cell ontology</dc:title>
</cp:coreProperties>
</file>